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17283"/>
        <c:axId val="51107547"/>
      </c:barChart>
      <c:catAx>
        <c:axId val="66317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07547"/>
        <c:crosses val="autoZero"/>
        <c:auto val="1"/>
        <c:lblAlgn val="ctr"/>
        <c:lblOffset val="100"/>
        <c:noMultiLvlLbl val="0"/>
      </c:catAx>
      <c:valAx>
        <c:axId val="51107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7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375-3871-448C-A6E7-C2411A56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30A-C326-46BE-B2A1-4E299A1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583-9CB3-4E77-A0C6-280FF534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8C6-4572-457E-A3B7-DF0B241B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4B8-757B-4819-9334-9AD91EC3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546-DA01-461F-A576-DFDE0FF1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24C-B34B-4BDB-AEF0-04F8C32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9B0-6607-4DC7-B2C9-AE7504E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A24-6EEE-4D77-88C7-215FB045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A18-6D14-4484-B17D-DD5381A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2DE-0462-4EF1-AD34-121E2386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798-F86D-4E88-9090-83A47E2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1D2CE-09A1-40D8-809F-9CBAD9900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