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53814"/>
        <c:axId val="23301000"/>
      </c:barChart>
      <c:catAx>
        <c:axId val="55953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01000"/>
        <c:crosses val="autoZero"/>
        <c:auto val="1"/>
        <c:lblAlgn val="ctr"/>
        <c:lblOffset val="100"/>
        <c:noMultiLvlLbl val="0"/>
      </c:catAx>
      <c:valAx>
        <c:axId val="23301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53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50E-BEFB-4130-8222-BAB99EFD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DBC-72B9-4B39-853F-AF3A3280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7F0-749D-4694-BA5A-F943302B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4C8-23A0-4439-88DC-CFB32654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923-033B-4040-8343-632BF423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A7F-FC54-4D40-8F41-B55DAC2F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0A8-1B4B-42D1-A8E7-50D2E68A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C62-E1E0-4A76-B10D-6478A5EC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68C-A37D-42EE-8D25-1CB2A9E5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200-DFEA-4206-9C36-1B4FA13D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700-4F01-42E3-8EDC-381E81EB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947-889B-4C9F-AFDE-29CD8739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B0B2B-784D-404B-910F-438C05D9B2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