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0BBF1-FE9E-4360-AFB7-D3C7A1856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A7683-FA9F-41CD-B32E-CD8F4F98B2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8CF0AD-3207-4841-96CC-EC2044163E4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139167-16C5-48F4-B6F5-FAC49986C3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28BC7F5-1947-4F4F-BAA6-723E631A59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9124AA-B4F8-4460-9E7E-020ACA5177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B88BE59-2CD0-4BC1-9756-2EA7556A7E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906FB8-B799-462E-8EE5-B949D607AD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E8FA87F-6744-45EA-8FC7-9A0DC62EAA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DFD207-862C-45FA-9588-B15DC1026D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39A7E70-F42E-4885-9D72-80A575B1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3603B3-A424-46A1-8B41-275EA0A650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FB06A5-B4B0-459D-A200-A73ADC9ED9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3CA4DF-1633-40B9-9F3F-8C4E676F99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26EECA-93C6-411A-B24A-65738E93B6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D16972-4FD1-4665-8C3B-54C5D1377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80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941520" y="198108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81916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4880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941520" y="4130640"/>
            <a:ext cx="19627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11729A-A379-407C-A583-079B246CD2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DB0EB-8746-4AAE-AAE5-82FE5EDBF0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922AC-753F-4F6C-BA82-C48D932086A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5C789-C0BC-4E4C-9D32-BD3764B3BC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819160" y="609120"/>
            <a:ext cx="609588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A2B4A-93D7-4930-AC4C-CA1150C909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41C649-EB50-489E-8735-328FF5FA9C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5942880" y="413064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62A18-A397-4320-9AFE-026CD23B8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942880" y="1981080"/>
            <a:ext cx="297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2819160" y="4130640"/>
            <a:ext cx="60958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47320-74E0-45F7-A5B3-86E5B9D4D9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2819160" y="6091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FCA01D-91E8-4274-81DF-70C5B63658D6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Click to edit the title text format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dt" idx="4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 type="ftr" idx="5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 type="sldNum" idx="6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ja-JP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12B48D-07C6-4384-AC78-CCB1BEB25A97}" type="slidenum">
              <a:rPr b="0" lang="ja-JP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9999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09999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9999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9999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336699"/>
                </a:solidFill>
                <a:latin typeface="Arial Narrow"/>
              </a:rPr>
              <a:t>Test for Namazu</a:t>
            </a:r>
            <a:endParaRPr b="1" lang="en-US" sz="54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4191120" y="1752120"/>
            <a:ext cx="4572000" cy="175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2400" spc="-1" strike="noStrike">
                <a:solidFill>
                  <a:srgbClr val="009999"/>
                </a:solidFill>
                <a:latin typeface="Arial"/>
              </a:rPr>
              <a:t>Copyright (C) 2000,2001 Namazu Project. All rights reserved.</a:t>
            </a:r>
            <a:endParaRPr b="0" lang="en-US" sz="24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819160" y="102672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1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Namazu is a full-text search system intended for easy use.  This file is for testin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819160" y="1025280"/>
            <a:ext cx="60958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336699"/>
                </a:solidFill>
                <a:latin typeface="Arial Narrow"/>
              </a:rPr>
              <a:t>Topic 2</a:t>
            </a:r>
            <a:endParaRPr b="1" lang="en-US" sz="4000" spc="-1" strike="noStrike">
              <a:solidFill>
                <a:srgbClr val="336699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2819160" y="1981080"/>
            <a:ext cx="60958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9999"/>
                </a:solidFill>
                <a:latin typeface="Arial"/>
              </a:rPr>
              <a:t>test@namazu.org</a:t>
            </a:r>
            <a:endParaRPr b="0" lang="en-US" sz="2800" spc="-1" strike="noStrike">
              <a:solidFill>
                <a:srgbClr val="009999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2-25T10:24:20Z</dcterms:created>
  <dc:creator>test@namazu.org</dc:creator>
  <dc:description>Copyright (C) 2000,2001 Namazu Project. All rights reserved.</dc:description>
  <cp:keywords>Microsoft PowerPoint 97 for Windows</cp:keywords>
  <dc:language>en-US</dc:language>
  <cp:lastModifiedBy>teranisi</cp:lastModifiedBy>
  <dcterms:modified xsi:type="dcterms:W3CDTF">2000-12-25T11:26:36Z</dcterms:modified>
  <cp:revision>2</cp:revision>
  <dc:subject>Test for Namazu(PowerPoint97)</dc:subject>
  <dc:title>Test for Namazu</dc:title>
</cp:coreProperties>
</file>