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86990"/>
        <c:axId val="99645706"/>
      </c:barChart>
      <c:catAx>
        <c:axId val="26886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5706"/>
        <c:crosses val="autoZero"/>
        <c:auto val="1"/>
        <c:lblAlgn val="ctr"/>
        <c:lblOffset val="100"/>
        <c:noMultiLvlLbl val="0"/>
      </c:catAx>
      <c:valAx>
        <c:axId val="99645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86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540-3167-4D3B-A531-A6F27822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DDD-BB45-4FC4-8FEE-38488E2B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7CE-2651-411A-89A8-22A108EF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9E9-5ACB-4877-AEDB-9D9D322A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BEC-4B3E-4EE0-8FA4-33C80AD7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420-9370-46DE-9D4B-526692BE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750-886A-49FA-ACC1-12BDAED6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E7F-C58F-4766-820D-1D0B3AAC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D6C-271D-452D-9571-161935C8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E11-3B9F-4A2D-ABFD-8467C648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FD8-827A-45BF-8E14-22CDA0E6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EC9-AB2E-41CC-B6BC-B3A1577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4CC94-E0F3-4A88-92BD-106A42D1DF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