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0031079"/>
        <c:axId val="47375929"/>
      </c:barChart>
      <c:catAx>
        <c:axId val="1003107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375929"/>
        <c:crosses val="autoZero"/>
        <c:auto val="1"/>
        <c:lblAlgn val="ctr"/>
        <c:lblOffset val="100"/>
        <c:noMultiLvlLbl val="0"/>
      </c:catAx>
      <c:valAx>
        <c:axId val="4737592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03107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B114B-6D8B-4212-A84B-9C320D3D9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EEB12-8C40-4139-A317-0942E1FBF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54755-A049-4A4C-98E6-5F26C6790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DF88F-AA17-42E7-B299-F99A8C641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097EC-463B-4C42-9012-C9AB8DB3F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5ACE0-1ABC-4BF2-AFDC-A93E31414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07922-8E7D-4966-9EC2-FA0D9F7BF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EA4C3-F05B-4771-8D03-EF9433BCC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D7C99-63C5-4702-B8AF-9BEA13CB3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62618-AC7A-4158-9965-C136D6EED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A68BF-121A-475D-9476-7E7B83504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2B472-BDD1-4D11-85FE-CE1789C01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45ED8C-8FBD-4EE8-B6F3-4E418104BF1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