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54527"/>
        <c:axId val="31312672"/>
      </c:barChart>
      <c:catAx>
        <c:axId val="56545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12672"/>
        <c:crosses val="autoZero"/>
        <c:auto val="1"/>
        <c:lblAlgn val="ctr"/>
        <c:lblOffset val="100"/>
        <c:noMultiLvlLbl val="0"/>
      </c:catAx>
      <c:valAx>
        <c:axId val="313126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545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E20B-92B8-4476-A103-13574943F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4A7F-9694-4FE1-BC68-FD8657A4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F2DA-0479-4E5E-B030-184C0F375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23B7-4FF4-48AE-97E5-1D41F1674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C0D4-1584-42B8-B7C9-B678A230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8835-E234-4ACD-B48B-AB3A2E59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5292-6BDE-4E1E-BE91-BB0CA36D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EF8F-16AF-4EF9-9A87-81BBD40C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D921-797A-413A-9C31-C78D077A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C3AF-B04F-41B7-8D6D-E4E48E43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5179-120A-4C81-891C-97ACFD64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4082-2471-47E9-9047-F5659CEC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2EF91C-7156-4F65-8455-905022D839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