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862718"/>
        <c:axId val="37953671"/>
      </c:barChart>
      <c:catAx>
        <c:axId val="268627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953671"/>
        <c:crosses val="autoZero"/>
        <c:auto val="1"/>
        <c:lblAlgn val="ctr"/>
        <c:lblOffset val="100"/>
        <c:noMultiLvlLbl val="0"/>
      </c:catAx>
      <c:valAx>
        <c:axId val="379536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8627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38A1-85D0-4C96-9774-8239820A2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441A-992E-4B10-A0C9-E0C3A20B4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6B63-0C2E-41C1-9770-F0F77F5B0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5FF3-0E7D-4F08-ADEA-FBEF246C6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16B9-3B28-43D3-84D6-3DE0480D3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3167E-1187-4E41-AEF2-026902617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D324-BA33-4858-8B9C-A8299CBD0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76BD-7C15-4BC5-9501-81DA996A5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0924-9794-4106-A3AD-637947999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F107-F097-4F76-9226-6F235C1D1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FF7F-E801-4DB2-8308-AFA84CED5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BC20-B03E-4128-95EF-10B82844D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EB70E6-3B98-485A-9DC2-BD9C028FA48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