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38199"/>
        <c:axId val="30548165"/>
      </c:barChart>
      <c:catAx>
        <c:axId val="40038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48165"/>
        <c:crosses val="autoZero"/>
        <c:auto val="1"/>
        <c:lblAlgn val="ctr"/>
        <c:lblOffset val="100"/>
        <c:noMultiLvlLbl val="0"/>
      </c:catAx>
      <c:valAx>
        <c:axId val="30548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38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2A9-3A8E-4AF6-9F44-2D44C4A3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418-4A4E-4805-9C20-A9030A01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D10-74FC-4A20-BF5A-27675D33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C91-A1BC-4D98-8D4D-D6929D0C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A31-0936-48C8-A4E4-10B02601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049-5E87-40AD-9913-A091E1EA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33B-4845-49E5-B9AF-2739386E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807-3AFB-4DF8-BCFD-703F4124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248-FBB3-4F85-BAF1-C049722B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6CE-1C71-4402-9302-D5EC9693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43F-E260-4817-9C89-2652826D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81E-2709-4624-9B35-586C363D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56A51-5391-4910-BE60-FAD0E267CA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