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73910"/>
        <c:axId val="18745595"/>
      </c:barChart>
      <c:catAx>
        <c:axId val="24273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45595"/>
        <c:crosses val="autoZero"/>
        <c:auto val="1"/>
        <c:lblAlgn val="ctr"/>
        <c:lblOffset val="100"/>
        <c:noMultiLvlLbl val="0"/>
      </c:catAx>
      <c:valAx>
        <c:axId val="18745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73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E38-E6CD-4BD7-ACDE-E26460F6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7E8-5EED-43ED-A5EF-1F925856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A59-B7A4-4AE6-B99C-8453D3A9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B3A-0F9E-4866-B87C-EBFE7797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C37-0D33-43ED-A4C9-5177BBFE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D47-A936-4BB7-9A8B-56A47D9B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5E3-62EC-49A1-B920-9A408130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1F4-B68C-40BD-B37B-96CF5985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0E8-92BD-4B69-8BEE-81B910AA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E5A-52D5-4F63-9E22-A7CC18E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57B-20F4-4E62-8781-C7433DBF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83A-A296-49EF-89EF-D93128C2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921E3-A94C-43B0-B17A-D29B142F21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