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1286"/>
        <c:axId val="36862875"/>
      </c:barChart>
      <c:catAx>
        <c:axId val="5341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62875"/>
        <c:crosses val="autoZero"/>
        <c:auto val="1"/>
        <c:lblAlgn val="ctr"/>
        <c:lblOffset val="100"/>
        <c:noMultiLvlLbl val="0"/>
      </c:catAx>
      <c:valAx>
        <c:axId val="36862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1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A3E-F49F-4EFE-81A2-4699A623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C0E-093F-423D-9CD9-104D0901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FB4-CC1E-4ADA-943B-3342DE0F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2C3-999B-40F3-A2B1-83E452E3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7A3-3308-4ABF-A8E4-7A77DEC4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3AA-5BE9-48DF-8ECD-C089062A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F33-81F9-4A31-BC8F-193F91AB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865-66BB-4281-939A-1A5FB9D6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9BF-B998-4A60-901E-C6A3C570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67E-AFAC-4DE5-9280-080A8722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684-69C6-4FAB-9C77-E02FF9CE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ED6-4F0D-4110-87A0-14E59486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38A8F-E89B-4002-9E7E-4EBBB406DF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