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37635"/>
        <c:axId val="98961685"/>
      </c:barChart>
      <c:catAx>
        <c:axId val="88137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61685"/>
        <c:crosses val="autoZero"/>
        <c:auto val="1"/>
        <c:lblAlgn val="ctr"/>
        <c:lblOffset val="100"/>
        <c:noMultiLvlLbl val="0"/>
      </c:catAx>
      <c:valAx>
        <c:axId val="98961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37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F1D-54E3-4183-9684-321DC7A9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509-376D-474B-AFE7-2C14B4F9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E16-2152-4C03-B4CE-2838DE2F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133-A82A-4D19-87A7-B8599685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4ED-204B-4212-9B42-AD308905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F85-DEFC-493F-BE27-84D94E28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7E3-91DD-4071-BA58-3001AFD6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C81-BC7D-4C51-8939-8AF989AF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099-7308-466A-9B2B-0BCC6DE2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322-7403-4B7E-ABD9-7EB51553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471-3369-4313-97F5-37CE293A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DE9-8970-4F96-BE36-522B0471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11F49-7E91-4130-983F-3C5AC1CD51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