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81834"/>
        <c:axId val="75712700"/>
      </c:barChart>
      <c:catAx>
        <c:axId val="711818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12700"/>
        <c:crosses val="autoZero"/>
        <c:auto val="1"/>
        <c:lblAlgn val="ctr"/>
        <c:lblOffset val="100"/>
        <c:noMultiLvlLbl val="0"/>
      </c:catAx>
      <c:valAx>
        <c:axId val="75712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818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886-ACE2-41B4-B78F-C0A089E6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CA6-821A-4820-9B96-77CE1EBA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E6B-0D1D-49A3-9DA9-49BEC2FF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19C-8D34-4291-8508-A4F6D292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52DB-89BF-4A67-B371-71F1083C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29B-9525-4632-9330-CB98C3BB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C3F-2452-4409-A0D5-192ED127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AEA-BF86-44F0-8668-491CD1A1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9EC-28C3-40A4-B3E0-57BA88FC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DB0-673F-4FD9-9442-FF7D5F2C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9F5-AA82-4093-8AB1-BA2380E9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99B-0DB8-41EB-A546-E8781020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15551-5AF1-46C7-BEBC-8B412FAD61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