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4195072"/>
        <c:axId val="86528013"/>
      </c:barChart>
      <c:catAx>
        <c:axId val="4419507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528013"/>
        <c:crosses val="autoZero"/>
        <c:auto val="1"/>
        <c:lblAlgn val="ctr"/>
        <c:lblOffset val="100"/>
        <c:noMultiLvlLbl val="0"/>
      </c:catAx>
      <c:valAx>
        <c:axId val="8652801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19507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9369E-8691-49BE-9738-FD9D3C868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AA70F-FBBD-4180-BDB6-216490FC4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E19F7-49E2-4635-9AE1-47A75C32E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0704E-46E7-478B-BFD2-11BDDF936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F8C17-CE6D-4B19-836B-0DF31CE83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68E3F-8F10-4345-9C0F-5F44F7F64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2970C-5C9D-450A-A20A-1386017E1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A9437-3FE2-4832-AB7E-AD399965A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AF9E8-88A3-4786-A966-F7A38B766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8CD9A-FD04-42A8-893D-BE90F9520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BA34C-6F53-4DE9-9C7E-E1F2F4F95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CAF22-3661-468D-8507-0AE1850E3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1EDD49-CC7A-4F63-A12B-644B358A681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