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258115"/>
        <c:axId val="55810072"/>
      </c:barChart>
      <c:catAx>
        <c:axId val="832581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10072"/>
        <c:crosses val="autoZero"/>
        <c:auto val="1"/>
        <c:lblAlgn val="ctr"/>
        <c:lblOffset val="100"/>
        <c:noMultiLvlLbl val="0"/>
      </c:catAx>
      <c:valAx>
        <c:axId val="558100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581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891C-26B2-4D0C-89D0-398E1B45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2159-5ADF-48A2-AF4B-82FA3384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CF8-B2BA-42DB-BA34-6AB0F585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44C-6E73-4385-A11C-3E3F237E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733-C17A-4676-B188-139C8971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961B-FB2E-4EB5-B0E1-A4836BF3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9AAD-7AAD-4194-ABC4-1FB05AFD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B6A3-5F95-4354-838D-F80CDD3D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823-57B8-4C49-A48F-F2E38A8C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A868-32F4-424A-A372-FADAD221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23E6-2D78-4A4B-A227-E922C1AC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73BD-AB8C-470A-99E7-1E13B815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1412E-0FAB-42D6-B7B8-6B580BBE32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