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139654"/>
        <c:axId val="32488931"/>
      </c:barChart>
      <c:catAx>
        <c:axId val="211396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488931"/>
        <c:crosses val="autoZero"/>
        <c:auto val="1"/>
        <c:lblAlgn val="ctr"/>
        <c:lblOffset val="100"/>
        <c:noMultiLvlLbl val="0"/>
      </c:catAx>
      <c:valAx>
        <c:axId val="324889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1396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1D45-C6C3-43FD-A9C1-00D23D9D1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A290-BE52-453C-B1F9-A8D3B30E4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71B9-E91A-4B94-9D32-E63599AC3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410F-30B9-4E57-836E-15C2F4FD9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46B6-A8B2-4248-BE8F-EC3B9E0DE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498B-E33F-4CE5-A250-49B88B55D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12C3-C87F-445A-A21A-603057640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CCC1-EE44-455C-AC48-475EFDC5A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41DD-5B9A-4648-9144-25D8106FF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079D-12BE-4808-9291-6C8C5A024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5E81-A6D1-4AB6-AD6C-230EF0B9A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1ED1-40A2-4BAE-88C2-6E7C02CD3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A174F3-FA8A-49B0-94D9-5FF994E25D6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