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60796"/>
        <c:axId val="70863309"/>
      </c:barChart>
      <c:catAx>
        <c:axId val="41460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3309"/>
        <c:crosses val="autoZero"/>
        <c:auto val="1"/>
        <c:lblAlgn val="ctr"/>
        <c:lblOffset val="100"/>
        <c:noMultiLvlLbl val="0"/>
      </c:catAx>
      <c:valAx>
        <c:axId val="70863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60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215-C772-472C-96D9-62516075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4FB-60C0-47D7-93E7-E7DE9EC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D6D-B577-49AA-876A-7EA945EC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021-2232-411B-8286-BDF2B74D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753-DC55-451F-A4D3-05FCB46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CA0-C210-497E-A04A-205976F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22C-277D-45D7-9DE5-94F71E7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6B8-F8BF-4CBA-8723-88373E6F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A63-A09A-4EB0-B919-803CC333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76A-AE62-40C5-A2FA-BAC0C32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A41-9ADC-44A5-83C6-F9EF3F0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1A1-F49B-4D09-8923-CBAAB62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EDE45-F137-4067-B168-16D4E3EFF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